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1BD-87CD-4EFF-ADFA-A78C977E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D7C-DF97-4A5D-999F-8F0B3848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FCB-C3FA-4F08-B92B-2EDCF234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A2F-B634-4365-A474-8C072997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800-9C08-46FC-992D-7C652625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844-E16C-4720-AE88-09FA1495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E9F-9889-40AF-82BA-CD5D2DDF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EC8-7EAB-4778-AF5B-141B4E0B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0B7-C4BD-42F5-B11D-596D074A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FF9-D50D-4390-A610-E7BA0856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59B-6411-4FBA-92D0-65F5BAA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B00-35B6-476F-8FDE-AD5C019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10F1-0C4F-43DD-AE78-5C7B04652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0.wmf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1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ve the theorem using the basic axioms of algeb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752480"/>
          <a:ext cx="72230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752480"/>
                    <a:ext cx="72230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" y="2438280"/>
          <a:ext cx="363204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438280"/>
                    <a:ext cx="36320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72000" y="2514600"/>
          <a:ext cx="129528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2514600"/>
                    <a:ext cx="129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" y="2895480"/>
          <a:ext cx="2898720" cy="144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2895480"/>
                    <a:ext cx="289872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72000" y="3429000"/>
          <a:ext cx="4097160" cy="541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3429000"/>
                    <a:ext cx="4097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14400" y="4419720"/>
          <a:ext cx="1709640" cy="549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14400" y="4419720"/>
                    <a:ext cx="1709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0" y="4419720"/>
          <a:ext cx="3855960" cy="439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72000" y="4419720"/>
                    <a:ext cx="38559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066680" y="5410080"/>
          <a:ext cx="1319400" cy="549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66680" y="5410080"/>
                    <a:ext cx="13194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72000" y="5410080"/>
          <a:ext cx="3924360" cy="542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72000" y="5410080"/>
                    <a:ext cx="39243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5360" y="121932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ve the theorem using the basic axioms of algebr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752480"/>
          <a:ext cx="632628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752480"/>
                    <a:ext cx="6326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2514600"/>
          <a:ext cx="2438640" cy="52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2514600"/>
                    <a:ext cx="2438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410080" y="2514600"/>
          <a:ext cx="129564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2514600"/>
                    <a:ext cx="129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62120" y="3276720"/>
          <a:ext cx="3962160" cy="66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62120" y="3276720"/>
                    <a:ext cx="39621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410080" y="3429000"/>
          <a:ext cx="3733920" cy="509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10080" y="3429000"/>
                    <a:ext cx="3733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0" y="4094280"/>
          <a:ext cx="5486400" cy="715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4094280"/>
                    <a:ext cx="548640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10080" y="4191120"/>
          <a:ext cx="3733920" cy="45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10080" y="4191120"/>
                    <a:ext cx="37339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415880" y="4952880"/>
          <a:ext cx="2602080" cy="549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15880" y="4952880"/>
                    <a:ext cx="26020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303880" y="5003640"/>
          <a:ext cx="3754440" cy="441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03880" y="5003640"/>
                    <a:ext cx="37544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057400" y="5791320"/>
          <a:ext cx="1190520" cy="5490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057400" y="5791320"/>
                    <a:ext cx="1190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321160" y="5791320"/>
          <a:ext cx="3822840" cy="5443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21160" y="5791320"/>
                    <a:ext cx="38228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a counterexample to show that the statement is not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133720"/>
          <a:ext cx="418788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41878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295280" y="3048120"/>
          <a:ext cx="3337200" cy="80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048120"/>
                    <a:ext cx="33372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52480" y="3886200"/>
          <a:ext cx="2183040" cy="71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3886200"/>
                    <a:ext cx="2183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38280" y="4572000"/>
          <a:ext cx="149220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38280" y="4572000"/>
                    <a:ext cx="1492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228600" y="5145120"/>
            <a:ext cx="8915400" cy="1044000"/>
            <a:chOff x="228600" y="5145120"/>
            <a:chExt cx="8915400" cy="1044000"/>
          </a:xfrm>
        </p:grpSpPr>
        <p:sp>
          <p:nvSpPr>
            <p:cNvPr id="99" name=""/>
            <p:cNvSpPr/>
            <p:nvPr/>
          </p:nvSpPr>
          <p:spPr>
            <a:xfrm>
              <a:off x="228600" y="5181480"/>
              <a:ext cx="8915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cause                 , you have shown one case in which the rule is fals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1828800" y="5145120"/>
            <a:ext cx="1320840" cy="633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28800" y="5145120"/>
                      <a:ext cx="132084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a counterexample to show that the statement is not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286000"/>
          <a:ext cx="33336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86000"/>
                    <a:ext cx="33336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219320" y="3200400"/>
          <a:ext cx="24811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3200400"/>
                    <a:ext cx="2481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600200" y="4038480"/>
          <a:ext cx="136368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4038480"/>
                    <a:ext cx="1363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228600" y="5181480"/>
            <a:ext cx="8915400" cy="1007640"/>
            <a:chOff x="228600" y="5181480"/>
            <a:chExt cx="8915400" cy="1007640"/>
          </a:xfrm>
        </p:grpSpPr>
        <p:sp>
          <p:nvSpPr>
            <p:cNvPr id="112" name=""/>
            <p:cNvSpPr/>
            <p:nvPr/>
          </p:nvSpPr>
          <p:spPr>
            <a:xfrm>
              <a:off x="228600" y="5181480"/>
              <a:ext cx="8915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cause                 , you have shown one case in which the rule is fals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886040" y="5219640"/>
            <a:ext cx="120636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86040" y="5219640"/>
                      <a:ext cx="1206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a counterexample to show that the statement is not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7720" y="2286000"/>
          <a:ext cx="329112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7720" y="2286000"/>
                    <a:ext cx="32911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3200400"/>
          <a:ext cx="24811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3200400"/>
                    <a:ext cx="2481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36840" y="4038480"/>
          <a:ext cx="1492200" cy="50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36840" y="4038480"/>
                    <a:ext cx="1492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228600" y="5181480"/>
            <a:ext cx="8915400" cy="1007640"/>
            <a:chOff x="228600" y="5181480"/>
            <a:chExt cx="8915400" cy="1007640"/>
          </a:xfrm>
        </p:grpSpPr>
        <p:sp>
          <p:nvSpPr>
            <p:cNvPr id="125" name=""/>
            <p:cNvSpPr/>
            <p:nvPr/>
          </p:nvSpPr>
          <p:spPr>
            <a:xfrm>
              <a:off x="228600" y="5181480"/>
              <a:ext cx="8915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cause                 , you have shown one case in which the rule is fals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1830240" y="5219640"/>
            <a:ext cx="131940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30240" y="5219640"/>
                      <a:ext cx="131940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5360" y="121932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an indirect proof to prove that the conclusion is tru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2209680"/>
          <a:ext cx="60692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09680"/>
                    <a:ext cx="60692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90720" y="3733920"/>
          <a:ext cx="1280880" cy="5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3733920"/>
                    <a:ext cx="1280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80880" y="4343400"/>
          <a:ext cx="2567160" cy="54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4343400"/>
                    <a:ext cx="25671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28600" y="266688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Assume the conclusion is false and contradict the given statemen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733920"/>
          <a:ext cx="6095880" cy="542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3733920"/>
                    <a:ext cx="6095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110120" y="4419720"/>
          <a:ext cx="3971880" cy="54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0120" y="4419720"/>
                    <a:ext cx="3971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880" y="5029200"/>
          <a:ext cx="2567160" cy="54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80880" y="5029200"/>
                    <a:ext cx="25671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343400" y="5105520"/>
          <a:ext cx="3835440" cy="441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43400" y="5105520"/>
                    <a:ext cx="38354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228600" y="5410080"/>
            <a:ext cx="8915400" cy="1464480"/>
            <a:chOff x="228600" y="5410080"/>
            <a:chExt cx="8915400" cy="1464480"/>
          </a:xfrm>
        </p:grpSpPr>
        <p:sp>
          <p:nvSpPr>
            <p:cNvPr id="147" name=""/>
            <p:cNvSpPr/>
            <p:nvPr/>
          </p:nvSpPr>
          <p:spPr>
            <a:xfrm>
              <a:off x="228600" y="5410080"/>
              <a:ext cx="89154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This statement contradicts the original statement                  </a:t>
              </a: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	</a:t>
              </a: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	</a:t>
              </a:r>
              <a:r>
                <a:rPr b="1" lang="en-US" sz="3000" spc="-1" strike="noStrike">
                  <a:solidFill>
                    <a:srgbClr val="990099"/>
                  </a:solidFill>
                  <a:latin typeface="Times New Roman"/>
                </a:rPr>
                <a:t>  . Therefore, it is impossible that              . Therefore              is true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304920" y="5878440"/>
            <a:ext cx="2209680" cy="4716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04920" y="5878440"/>
                      <a:ext cx="22096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7620120" y="5867280"/>
            <a:ext cx="1141200" cy="5018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7620120" y="5867280"/>
                      <a:ext cx="11412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2057400" y="6454800"/>
            <a:ext cx="990720" cy="4032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057400" y="6454800"/>
                      <a:ext cx="99072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ogical Reasoning:Pro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CCSS</cp:lastModifiedBy>
  <dcterms:modified xsi:type="dcterms:W3CDTF">2002-04-18T14:19:17Z</dcterms:modified>
  <cp:revision>77</cp:revision>
  <dc:subject/>
  <dc:title>No Slide Title</dc:title>
</cp:coreProperties>
</file>